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6AD-A66A-414B-A78D-0BC321FD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053-2DB4-4C56-9096-AA56F6DF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8C3-A140-4F2C-A5D8-C0E65B3D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077-F130-4622-825A-A64D96F0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4CB-52BE-4AA3-A05D-593795CC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5F7-681A-44CD-82EB-5FAA564B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A03-9008-4078-B81E-F312798A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2AF-DD18-4F26-8CFF-0671AD68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BD8-0D81-40DF-AAC7-5F93C064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0D6-F6A9-49F4-AB02-669E3703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11C-D6A8-4CF0-97EC-63F33787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7AB-DF34-4BAA-BB9D-B273BC07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C4D0-2B77-4808-AE82-68224C32886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566" r="0" b="14803"/>
          <a:stretch/>
        </p:blipFill>
        <p:spPr>
          <a:xfrm>
            <a:off x="0" y="3068640"/>
            <a:ext cx="4427640" cy="38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0" b="29050"/>
          <a:stretch/>
        </p:blipFill>
        <p:spPr>
          <a:xfrm>
            <a:off x="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427640" y="6308640"/>
            <a:ext cx="462096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By: Amy Chen, Bridget Panyc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26028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Genetically Modified Plant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ornl.gov/sci/techresources/Human_Genome/elsi/gmfood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greenfacts.org/en/gmo/2-genetically-modified-crops/1-agricultural-biotechnology.htm#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recipes.howstuffworks.com/question148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trendhunter.com/trends/blue-rose-is-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宋体"/>
              </a:rPr>
              <a:t>Whitman, Deborah. Genetically Modified Foods: Harmful or Helpful. April 2000. http://www.csa.com/discoveryguides/gmfood/overview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Makes changes to the hereditary material of a living organ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Biotechnologies are used to develop plants resistant to pests, diseases, drought, heat, or cold, and improve the nutritional content of plant foo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683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2006, a total of 252 million acres of transgenic crops were planted in 22 countries by 10.3 million far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erbicide- and insect-resistant soybeans, corn, and 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weet potato resistant to a virus that could decimate most of the African harv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ice with increased iron and vitamins that may alleviate chronic malnutrition in Asia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riety of plants able to survive weather extr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76720" cy="305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0" r="0" b="10810"/>
          <a:stretch/>
        </p:blipFill>
        <p:spPr>
          <a:xfrm>
            <a:off x="5076720" y="3429000"/>
            <a:ext cx="3171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Examples of GM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267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, made by Monsanto (agriculture company)- a herbicide that kills any plant that it t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d “Roundup Ready”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op ignores Roundup, but weeds a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 Ready seeds reduce production costs and increase yield, so food becomes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ientists have inserted genes that produce a natural insecticide into cor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0360" y="3860640"/>
            <a:ext cx="2664000" cy="177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179064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Fl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rebuchet MS"/>
              </a:rPr>
              <a:t>Blue R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A Japanese company, Sun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Delphinidin (produces blue pig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Growing the rose experimentally in Australia and the United States to get approval for s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33670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00"/>
                </a:solidFill>
                <a:latin typeface="Agency FB"/>
                <a:ea typeface="宋体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6491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Restriction enzymes- “Chemical scissors” used to cut DNA into fragments at specific locations. Restriction enzymes are found in bacteria and they are used to eliminate invading D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Ligase enzymes- These are used to attach sticky ends that are created by the restriction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Gene vector- Plasmid is an example of a gene vector. It is used to insert a foreign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Donor gene- A ggene from another organism that is inserted into a gene vector. This will result in a change in the genetic code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976320"/>
          <a:ext cx="1133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76320"/>
                    <a:ext cx="1133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71640" y="1341360"/>
          <a:ext cx="174312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341360"/>
                    <a:ext cx="174312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12000" y="1407960"/>
          <a:ext cx="149544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407960"/>
                    <a:ext cx="14954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020000" y="3573360"/>
          <a:ext cx="177156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3573360"/>
                    <a:ext cx="1771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95640" y="4000680"/>
          <a:ext cx="1495440" cy="19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4000680"/>
                    <a:ext cx="14954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2997360"/>
          <a:ext cx="2682720" cy="3676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2997360"/>
                    <a:ext cx="268272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403280" y="1768320"/>
          <a:ext cx="1584360" cy="69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768320"/>
                    <a:ext cx="15843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84720" y="1697040"/>
          <a:ext cx="158436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1697040"/>
                    <a:ext cx="1584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236000" y="1841400"/>
          <a:ext cx="1736640" cy="168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6000" y="1841400"/>
                    <a:ext cx="17366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580000" y="4508640"/>
          <a:ext cx="165744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80000" y="4508640"/>
                    <a:ext cx="1657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2627280" y="4361040"/>
            <a:ext cx="1295280" cy="75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28720" y="18900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Diagram of Proces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637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Bact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1197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las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256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Plas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119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Donor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71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ransgenic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3500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Recombinant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386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>
                <a:solidFill>
                  <a:srgbClr val="000000"/>
                </a:solidFill>
                <a:latin typeface="Agency FB"/>
              </a:rPr>
              <a:t>Benefits</a:t>
            </a:r>
            <a:r>
              <a:rPr b="1" lang="zh-TW" sz="6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rebuchet MS"/>
                <a:ea typeface="宋体"/>
              </a:rPr>
              <a:t>Preventing malnutrition/disease –in underdeveloped countries, malnutrition and disease is common. Plants can be genetically modified to contain vitamins and edible vaccines. (ex: Golden Ric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rebuchet MS"/>
                <a:ea typeface="宋体"/>
              </a:rPr>
              <a:t>Eliminating Pesticides –Genetically modified plants can contain genes that cause the plant to need less pesticid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Environm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"Friendly" herbicides and insecticid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Conservation of soil, water, and energ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Better natural waste managem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Societ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Trebuchet MS"/>
              </a:rPr>
              <a:t>Increased food security for growing popula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Risks and Controvers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Safety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uman health impact: allergens, transfer of antibiotic resistance markers, unknown eff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Ethics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Violation of nature’s organis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ampering with nature by mixing genes among speci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Objections to consuming animal genes in pl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4:52:09Z</dcterms:created>
  <dc:creator>ASUS</dc:creator>
  <dc:description/>
  <dc:language>en-US</dc:language>
  <cp:lastModifiedBy>Janet</cp:lastModifiedBy>
  <dcterms:modified xsi:type="dcterms:W3CDTF">2008-03-05T14:01:42Z</dcterms:modified>
  <cp:revision>39</cp:revision>
  <dc:subject/>
  <dc:title>Genetically Modified Plants</dc:title>
</cp:coreProperties>
</file>